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6692-D2D9-4893-A375-5B3057FB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71280" y="1196640"/>
            <a:ext cx="6264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71280" y="2349000"/>
            <a:ext cx="62643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71280" y="4041720"/>
            <a:ext cx="62643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01F6-6D76-4CD5-A918-EED19E4E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71280" y="1196640"/>
            <a:ext cx="6264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71280" y="2349000"/>
            <a:ext cx="30567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981400" y="2349000"/>
            <a:ext cx="30567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71280" y="4041720"/>
            <a:ext cx="30567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81400" y="4041720"/>
            <a:ext cx="30567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EF6C-C5A3-4939-A0F7-81225EB3D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71280" y="1196640"/>
            <a:ext cx="6264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771280" y="2349000"/>
            <a:ext cx="201672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89160" y="2349000"/>
            <a:ext cx="201672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007040" y="2349000"/>
            <a:ext cx="201672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771280" y="4041720"/>
            <a:ext cx="201672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889160" y="4041720"/>
            <a:ext cx="201672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007040" y="4041720"/>
            <a:ext cx="201672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3552-B6C9-4B4C-8520-08FA74DAC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71280" y="1196640"/>
            <a:ext cx="6264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771280" y="2349000"/>
            <a:ext cx="626436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AD54-8E3B-4F38-8D8E-34DDCFB3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71280" y="1196640"/>
            <a:ext cx="6264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71280" y="2349000"/>
            <a:ext cx="626436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BF19-3CAC-4898-9A95-B0923B39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71280" y="1196640"/>
            <a:ext cx="6264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71280" y="2349000"/>
            <a:ext cx="305676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81400" y="2349000"/>
            <a:ext cx="305676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4F4D-F033-4183-818F-9B6E4FB2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71280" y="1196640"/>
            <a:ext cx="6264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31C9-00C5-411F-8217-2621C201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771280" y="1196640"/>
            <a:ext cx="6264360" cy="46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0591-7F57-4A1F-8CC4-43DBDE68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71280" y="1196640"/>
            <a:ext cx="6264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771280" y="2349000"/>
            <a:ext cx="30567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1400" y="2349000"/>
            <a:ext cx="305676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771280" y="4041720"/>
            <a:ext cx="30567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1119-9298-4FE6-B046-316AA6EC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71280" y="1196640"/>
            <a:ext cx="6264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771280" y="2349000"/>
            <a:ext cx="305676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81400" y="2349000"/>
            <a:ext cx="30567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81400" y="4041720"/>
            <a:ext cx="30567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94A3-F416-4D0A-8717-40779A40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71280" y="1196640"/>
            <a:ext cx="6264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771280" y="2349000"/>
            <a:ext cx="30567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81400" y="2349000"/>
            <a:ext cx="30567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771280" y="4041720"/>
            <a:ext cx="62643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466E-86CE-465F-BC64-4891B135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71280" y="1196640"/>
            <a:ext cx="6264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71280" y="2349000"/>
            <a:ext cx="626436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16360" y="5661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1171-CE6C-4317-BAC8-318EC4EDD292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42920" y="63817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hen Doyle  1234  56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4EDC-BA56-4A2C-B811-D856E2E6A8E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700360" cy="6858000"/>
          </a:xfrm>
          <a:prstGeom prst="rect">
            <a:avLst/>
          </a:prstGeom>
          <a:solidFill>
            <a:srgbClr val="d9d9d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9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Straight Connector 11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3" descr="C:\Program Files\Microsoft Office\MEDIA\CAGCAT10\j0285750.wmf"/>
          <p:cNvPicPr/>
          <p:nvPr/>
        </p:nvPicPr>
        <p:blipFill>
          <a:blip r:embed="rId2"/>
          <a:stretch/>
        </p:blipFill>
        <p:spPr>
          <a:xfrm>
            <a:off x="7956720" y="404640"/>
            <a:ext cx="1079280" cy="663840"/>
          </a:xfrm>
          <a:prstGeom prst="rect">
            <a:avLst/>
          </a:prstGeom>
          <a:ln w="0">
            <a:noFill/>
          </a:ln>
        </p:spPr>
      </p:pic>
      <p:sp>
        <p:nvSpPr>
          <p:cNvPr id="9" name="TextBox 13"/>
          <p:cNvSpPr/>
          <p:nvPr/>
        </p:nvSpPr>
        <p:spPr>
          <a:xfrm>
            <a:off x="2771640" y="404640"/>
            <a:ext cx="48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mpusol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42920" y="1557000"/>
            <a:ext cx="6188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43280" y="3573000"/>
            <a:ext cx="6192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48" name="Footer Placeholder 6"/>
          <p:cNvSpPr/>
          <p:nvPr/>
        </p:nvSpPr>
        <p:spPr>
          <a:xfrm>
            <a:off x="2843280" y="63817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hen Doyle  1234  56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2T16:15:38Z</dcterms:created>
  <dc:creator>© Oxford University Press</dc:creator>
  <dc:description/>
  <dc:language>en-US</dc:language>
  <cp:lastModifiedBy>Yew Hah</cp:lastModifiedBy>
  <dcterms:modified xsi:type="dcterms:W3CDTF">2014-08-20T12:59:59Z</dcterms:modified>
  <cp:revision>2</cp:revision>
  <dc:subject/>
  <dc:title>PowerPoint Presentation</dc:title>
</cp:coreProperties>
</file>