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D2B-0E5C-458A-86A1-F7A49C40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62643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71280" y="4041720"/>
            <a:ext cx="62643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39D-B67A-411F-9B99-4E299BF4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7128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8140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32D-6C9E-4637-A7EA-771F2167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89160" y="234900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007040" y="234900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771280" y="404172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889160" y="404172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007040" y="4041720"/>
            <a:ext cx="201672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752-3851-4A18-A37C-1A989810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771280" y="2349000"/>
            <a:ext cx="626436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4C1-ED67-40FD-BE1B-9D8B0190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6264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56E-CE99-40D7-BF68-2AA55AD0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136-AA72-431B-B2AA-2993DECA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5B1-7567-4451-AB1B-33014E14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771280" y="1196640"/>
            <a:ext cx="626436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EFF-607E-45A0-8E2A-40D3134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7128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1B7-DA6F-44AF-89E5-1CFA0FA2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81400" y="404172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978-86A6-476D-B1BB-C698F93C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7128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81400" y="2349000"/>
            <a:ext cx="30567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71280" y="4041720"/>
            <a:ext cx="6264360" cy="15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CC7-B141-4282-962D-3C3A605C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71280" y="1196640"/>
            <a:ext cx="6264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71280" y="2349000"/>
            <a:ext cx="6264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16360" y="5661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423D-08CB-4FD3-8924-8926B56B428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42920" y="63817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hen Doyle  1234  56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7B14-038C-42DD-B784-D3B527C7CD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700360" cy="6858000"/>
          </a:xfrm>
          <a:prstGeom prst="rect">
            <a:avLst/>
          </a:prstGeom>
          <a:solidFill>
            <a:srgbClr val="d9d9d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11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3" descr="C:\Program Files\Microsoft Office\MEDIA\CAGCAT10\j0285750.wmf"/>
          <p:cNvPicPr/>
          <p:nvPr/>
        </p:nvPicPr>
        <p:blipFill>
          <a:blip r:embed="rId2"/>
          <a:stretch/>
        </p:blipFill>
        <p:spPr>
          <a:xfrm>
            <a:off x="7956720" y="404640"/>
            <a:ext cx="1079280" cy="663840"/>
          </a:xfrm>
          <a:prstGeom prst="rect">
            <a:avLst/>
          </a:prstGeom>
          <a:ln w="0">
            <a:noFill/>
          </a:ln>
        </p:spPr>
      </p:pic>
      <p:sp>
        <p:nvSpPr>
          <p:cNvPr id="9" name="TextBox 13"/>
          <p:cNvSpPr/>
          <p:nvPr/>
        </p:nvSpPr>
        <p:spPr>
          <a:xfrm>
            <a:off x="2771640" y="40464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mpusol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1557000"/>
            <a:ext cx="618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43280" y="3573000"/>
            <a:ext cx="6192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48" name="Footer Placeholder 6"/>
          <p:cNvSpPr/>
          <p:nvPr/>
        </p:nvSpPr>
        <p:spPr>
          <a:xfrm>
            <a:off x="2843280" y="6381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hen Doyle  1234  56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6:15:38Z</dcterms:created>
  <dc:creator>© Oxford University Press</dc:creator>
  <dc:description/>
  <dc:language>en-US</dc:language>
  <cp:lastModifiedBy>Yew Hah</cp:lastModifiedBy>
  <dcterms:modified xsi:type="dcterms:W3CDTF">2014-08-20T12:59:59Z</dcterms:modified>
  <cp:revision>2</cp:revision>
  <dc:subject/>
  <dc:title>PowerPoint Presentation</dc:title>
</cp:coreProperties>
</file>