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331-5775-4C9D-9672-720721AA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71280" y="404172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957-FDC6-4687-9B32-2A5145DD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8140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AC4-512E-46ED-AAE0-8A096C6D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8916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00704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77128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88916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00704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636-23E3-4948-9210-0E86C09E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3F4-2C74-425C-BCFC-B96C86F1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E0D-919D-4AB4-A7F4-9E0971E1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A8E-E6B9-4A2B-B579-055B2C6C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1B1-C3FB-4465-BAA1-70B85167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71280" y="1196640"/>
            <a:ext cx="626436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2BD-6783-48D7-9F56-4024E0FD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86B-F527-4C0B-8FBE-F1B88000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8140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82E-7C05-4947-8B62-EEE91AA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E78-AEF7-46BD-BABF-40BDB9F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6360" y="5661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6CD1-E4D7-4800-B6A4-32409AD884A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4292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hen Doyle  1234  56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1370-B352-467A-962E-A028F35AB3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700360" cy="6858000"/>
          </a:xfrm>
          <a:prstGeom prst="rect">
            <a:avLst/>
          </a:prstGeom>
          <a:solidFill>
            <a:srgbClr val="d9d9d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11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3" descr="C:\Program Files\Microsoft Office\MEDIA\CAGCAT10\j0285750.wmf"/>
          <p:cNvPicPr/>
          <p:nvPr/>
        </p:nvPicPr>
        <p:blipFill>
          <a:blip r:embed="rId2"/>
          <a:stretch/>
        </p:blipFill>
        <p:spPr>
          <a:xfrm>
            <a:off x="7956720" y="404640"/>
            <a:ext cx="1079280" cy="663840"/>
          </a:xfrm>
          <a:prstGeom prst="rect">
            <a:avLst/>
          </a:prstGeom>
          <a:ln w="0">
            <a:noFill/>
          </a:ln>
        </p:spPr>
      </p:pic>
      <p:sp>
        <p:nvSpPr>
          <p:cNvPr id="9" name="TextBox 13"/>
          <p:cNvSpPr/>
          <p:nvPr/>
        </p:nvSpPr>
        <p:spPr>
          <a:xfrm>
            <a:off x="2771640" y="40464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mpusol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1557000"/>
            <a:ext cx="618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3280" y="3573000"/>
            <a:ext cx="6192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48" name="Footer Placeholder 6"/>
          <p:cNvSpPr/>
          <p:nvPr/>
        </p:nvSpPr>
        <p:spPr>
          <a:xfrm>
            <a:off x="284328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hen Doyle  1234  56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6:15:38Z</dcterms:created>
  <dc:creator>© Oxford University Press</dc:creator>
  <dc:description/>
  <dc:language>en-US</dc:language>
  <cp:lastModifiedBy>Yew Hah</cp:lastModifiedBy>
  <dcterms:modified xsi:type="dcterms:W3CDTF">2014-08-20T12:59:59Z</dcterms:modified>
  <cp:revision>2</cp:revision>
  <dc:subject/>
  <dc:title>PowerPoint Presentation</dc:title>
</cp:coreProperties>
</file>