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BAE-C9D5-4827-9ACB-18C04D4E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71280" y="404172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42A-D08A-4512-B9E4-F7A081CB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8140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845-B265-4069-B25D-F8CB3B7E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8916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00704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77128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88916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00704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D6D-254B-425C-8567-6F6EC4F3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DA8-5037-4499-AEAD-431DE538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C0F-A3D5-45EB-ADAF-E2CD355C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1B0-7509-4158-836D-B164126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B96-E87C-418B-975C-A0307EEA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71280" y="1196640"/>
            <a:ext cx="626436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D2D-095B-4863-AB71-1F8F099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381-6EEF-4C24-B6C7-39B9FAD4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8140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7CB-44D0-4BE0-8D55-3263A2E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2CB-28C6-46D4-8306-71DF7EEB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6360" y="5661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1A62-773D-49EB-8B3E-567355AACA8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4292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hen Doyle  1234  56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8E7A-BF9A-4CCC-8D1A-CE996CBB7A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700360" cy="6858000"/>
          </a:xfrm>
          <a:prstGeom prst="rect">
            <a:avLst/>
          </a:prstGeom>
          <a:solidFill>
            <a:srgbClr val="d9d9d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11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3" descr="C:\Program Files\Microsoft Office\MEDIA\CAGCAT10\j0285750.wmf"/>
          <p:cNvPicPr/>
          <p:nvPr/>
        </p:nvPicPr>
        <p:blipFill>
          <a:blip r:embed="rId2"/>
          <a:stretch/>
        </p:blipFill>
        <p:spPr>
          <a:xfrm>
            <a:off x="7956720" y="404640"/>
            <a:ext cx="1079280" cy="663840"/>
          </a:xfrm>
          <a:prstGeom prst="rect">
            <a:avLst/>
          </a:prstGeom>
          <a:ln w="0">
            <a:noFill/>
          </a:ln>
        </p:spPr>
      </p:pic>
      <p:sp>
        <p:nvSpPr>
          <p:cNvPr id="9" name="TextBox 13"/>
          <p:cNvSpPr/>
          <p:nvPr/>
        </p:nvSpPr>
        <p:spPr>
          <a:xfrm>
            <a:off x="2771640" y="40464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mpusol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1557000"/>
            <a:ext cx="618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3280" y="3573000"/>
            <a:ext cx="6192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48" name="Footer Placeholder 6"/>
          <p:cNvSpPr/>
          <p:nvPr/>
        </p:nvSpPr>
        <p:spPr>
          <a:xfrm>
            <a:off x="284328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hen Doyle  1234  56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6:15:38Z</dcterms:created>
  <dc:creator>© Oxford University Press</dc:creator>
  <dc:description/>
  <dc:language>en-US</dc:language>
  <cp:lastModifiedBy>Yew Hah</cp:lastModifiedBy>
  <dcterms:modified xsi:type="dcterms:W3CDTF">2014-08-20T12:59:59Z</dcterms:modified>
  <cp:revision>2</cp:revision>
  <dc:subject/>
  <dc:title>PowerPoint Presentation</dc:title>
</cp:coreProperties>
</file>